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8C0C-774F-4838-BDC0-F7129615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1110-0258-4708-BE70-EFD47695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CEC-9EC9-490F-8699-C410E035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842-A706-40C7-8ED3-AF95B5E6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4375-7F46-427F-B19D-E216A394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384D-15D1-4D30-8F1E-C23D403F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9778-DCA0-47AB-B813-DB7879E4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D353-5489-40C8-810E-DCF4E2AB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C9C4-C61C-4186-B984-33229BF0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4ACB-A40D-4E54-B988-19489A24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41A7-0A35-4821-B110-FEF34D91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9A07-AEEC-4898-A5DB-F95825DC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3E5A-5877-4159-ACF2-AC7B2AAF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8A9A-E75B-419C-A31F-3AEABC2D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6920-7125-49AF-94F2-DC5A9AF3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91E4-12C7-4163-9B91-F7AE3930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F41D-D0BC-4E8C-A03C-6799123F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BD4-5823-40FB-8427-01AE8CF6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BD43-0E4E-4236-9C71-A5BDD5FD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E1F-E8B0-4484-9CC6-2EB9E3AB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2360-E765-487D-AAF9-170DB9E3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425-9542-40D5-BFD5-B685ECB3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586A-4384-4F43-9765-391C0A8F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9326-0A9E-4F26-B2F2-71B42164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42C5-D190-49F2-922C-836F497C02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F889-4C3A-4688-9B8C-834EACBA37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УПРАВЉАЊ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ТРОШКОВИМ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Савремени приступи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управљања трошкови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трошкова по активностим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 costing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по циљним трошкови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укупног трошка животног циклуса произво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трошкова атрибута произво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трошкова по процеси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трошкова по ланцу вред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трошкова по Кајзен техниц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трошкова по активностим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– Activity Based Costing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развијен 80-тих годи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астао је у 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САД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азвили су га Роберт 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Каплан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и Робин 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Купер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напређење и н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доградња традиционалних систе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нализе и обрачуна трошк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Још увек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ије нашао ширу примену у Србиј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чун трошкова по активностима се заснива на следећим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тпоставка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 би се произвео производ или пружила услуга неопходно је обавити следеће актив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обављање активности неопходно је утрошити одређене ресур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ности су основ за алокацију трошк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рочници потрошње ресурса и узрочници активности не морају бити везани за обим прода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обрачун трошкова здравствених установа релевантна су места трошкова која учествују у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оцесима, активности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ограм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 за планирање и праћене трошкова у здравственим установама је подела места трошков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ема функција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шкови се, према функцијама, у здравственим установама могу поделити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а трошкова пружања здравствених услу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министративна места трош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еста трошкова пружања здравствених услуг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, према функцији у процесу медицинских поступака, могу поделити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еста трошкова главне делатност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 пример: клинике или одељења) који могу да стварају прих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еста трошкова споредне делатност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 пример: лабораторија или радиологија) који пружају дијагностичке поступке за пацијенте који се налазе смештени на места трошкова главне дела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Фазе имплементације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BC </a:t>
            </a:r>
            <a:r>
              <a:rPr b="1" lang="sr-RS" sz="2200" spc="-1" strike="noStrike">
                <a:solidFill>
                  <a:srgbClr val="0000ff"/>
                </a:solidFill>
                <a:latin typeface="Arial"/>
              </a:rPr>
              <a:t>метод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дентификација производа/услуга/корисника који су носиоци трошков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тврђивање главних активности и база, односно фактора трошења по тим активностим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тврђивање директних трошкова производа/услуг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тврђивање индиректних трошкова пружања услуга (општих трошкова) по појединим активностим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окација индиректних трошкова пружања услуга на носиоце трошкова утврђених фактора трошењ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тврђивање индиректних трошкова пружања услуге по јединици производа/услуга/корисн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тврђивање укупних и једничних трошкова поједини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а/услуга/корис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447920"/>
          <a:ext cx="8229600" cy="5317920"/>
        </p:xfrm>
        <a:graphic>
          <a:graphicData uri="http://schemas.openxmlformats.org/drawingml/2006/table">
            <a:tbl>
              <a:tblPr/>
              <a:tblGrid>
                <a:gridCol w="3352680"/>
                <a:gridCol w="1067040"/>
                <a:gridCol w="914400"/>
                <a:gridCol w="1143000"/>
                <a:gridCol w="990360"/>
                <a:gridCol w="7621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иљеви увођ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нгле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н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ранцу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мач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р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ћање учи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ширење акти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акшати избор пацијенти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ањити чека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ољшање квалитета услуг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една рсподела између географских подручја и самих уста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ћа транспарентност финанс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иће трошк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и услови за приватне и јавне устано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ље управљање  документи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оставити везу између активности и услу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f7547"/>
                </a:solidFill>
                <a:latin typeface="Arial"/>
              </a:rPr>
              <a:t>ABC costing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јем 20. века развија се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-Driven Activity Based Costing (TDAB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дносно 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обрачун трошкова према активностима заснован на времен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DABC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је варијан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методе развијена да поједностави имплементацију и одржавање управљачког рачуноводст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DABC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метода користи 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квантитативне факторе трошења базиране на активностима ресурс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који се користе у пружању здравствених усл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30T06:26:52Z</dcterms:modified>
  <cp:revision>180</cp:revision>
  <dc:subject/>
  <dc:title>Soft and Hard Skills Development: A Current Situation in Serbian Companies</dc:title>
</cp:coreProperties>
</file>